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72D-A229-4CB8-BE36-032E1CAF7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42E-A762-46BF-BBEC-401E3BDC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8E7-F93A-47AE-AF74-D30769AB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9D5-9F4F-4CD3-869E-285025F2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6F4-D0F0-4587-8913-B6A987F66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1BE-D514-4FAD-B3B4-B7FA1739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F28-F6BE-4B9D-A325-5784A189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31A-4A1E-4BC7-B660-3B2390C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4DD-CD59-47EF-BCFE-3721562B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3F8-A50D-4E9A-83FF-BD674319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925-20EB-495D-8E5E-5D1C674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1CF-B4BF-4937-9BAE-5143DA0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E0E-4E6F-4180-8A44-7BC27A62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3D5-A1E6-4883-B435-39D0F13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681-E65D-4DAA-A911-3308EED4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22B-0CE8-4C53-9613-4414943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227-CBAA-444C-840C-EB429EC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0AF-B639-4821-A791-25813EB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93F-2764-4003-98C0-83D2CF086D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8382240" cy="3352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 TITLE—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t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lesson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DERSTAN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th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 able to D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4495680"/>
            <a:ext cx="8382240" cy="2133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ies Used in this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ve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ing Across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g in Conten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cul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5880" y="152280"/>
            <a:ext cx="2667240" cy="55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al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ra Dun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8120" y="4419720"/>
            <a:ext cx="22096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l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-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952880" y="4419720"/>
            <a:ext cx="20574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k-Tac-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bing/Think 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ice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858000" y="4495680"/>
            <a:ext cx="1905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ht. B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Uni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609480"/>
          <a:ext cx="8381880" cy="61279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EQ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905120" y="609480"/>
          <a:ext cx="1191960" cy="6096240"/>
        </p:xfrm>
        <a:graphic>
          <a:graphicData uri="http://schemas.openxmlformats.org/drawingml/2006/table">
            <a:tbl>
              <a:tblPr/>
              <a:tblGrid>
                <a:gridCol w="1191960"/>
              </a:tblGrid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Lesson 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72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74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76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80"/>
          <p:cNvSpPr/>
          <p:nvPr/>
        </p:nvSpPr>
        <p:spPr>
          <a:xfrm>
            <a:off x="147600" y="4772160"/>
            <a:ext cx="2509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84"/>
          <p:cNvSpPr/>
          <p:nvPr/>
        </p:nvSpPr>
        <p:spPr>
          <a:xfrm>
            <a:off x="304920" y="152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5"/>
          <p:cNvSpPr/>
          <p:nvPr/>
        </p:nvSpPr>
        <p:spPr>
          <a:xfrm>
            <a:off x="304920" y="152280"/>
            <a:ext cx="8458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for the Concept, Topic, or Skill --- Not for the 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97"/>
          <p:cNvSpPr/>
          <p:nvPr/>
        </p:nvSpPr>
        <p:spPr>
          <a:xfrm>
            <a:off x="2209680" y="1219320"/>
            <a:ext cx="6553440" cy="38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99"/>
          <p:cNvSpPr/>
          <p:nvPr/>
        </p:nvSpPr>
        <p:spPr>
          <a:xfrm>
            <a:off x="2209680" y="14479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0"/>
          <p:cNvSpPr/>
          <p:nvPr/>
        </p:nvSpPr>
        <p:spPr>
          <a:xfrm>
            <a:off x="2209680" y="182880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01"/>
          <p:cNvSpPr/>
          <p:nvPr/>
        </p:nvSpPr>
        <p:spPr>
          <a:xfrm>
            <a:off x="2209680" y="2743200"/>
            <a:ext cx="6553440" cy="2871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2"/>
          <p:cNvSpPr/>
          <p:nvPr/>
        </p:nvSpPr>
        <p:spPr>
          <a:xfrm>
            <a:off x="2209680" y="571500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3"/>
          <p:cNvSpPr/>
          <p:nvPr/>
        </p:nvSpPr>
        <p:spPr>
          <a:xfrm>
            <a:off x="380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ential Qu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4"/>
          <p:cNvSpPr/>
          <p:nvPr/>
        </p:nvSpPr>
        <p:spPr>
          <a:xfrm>
            <a:off x="380880" y="1905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ivating    Strate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05"/>
          <p:cNvSpPr/>
          <p:nvPr/>
        </p:nvSpPr>
        <p:spPr>
          <a:xfrm>
            <a:off x="380880" y="2743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ing Strateg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06"/>
          <p:cNvSpPr/>
          <p:nvPr/>
        </p:nvSpPr>
        <p:spPr>
          <a:xfrm>
            <a:off x="533520" y="4648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07"/>
          <p:cNvSpPr/>
          <p:nvPr/>
        </p:nvSpPr>
        <p:spPr>
          <a:xfrm>
            <a:off x="380880" y="5715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marizing Strateg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04920" y="609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 Lesson Duration_________________________ beginning date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5120" y="465120"/>
          <a:ext cx="7913880" cy="61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79138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2"/>
          <p:cNvSpPr/>
          <p:nvPr/>
        </p:nvSpPr>
        <p:spPr>
          <a:xfrm>
            <a:off x="533520" y="121932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 Lesson Duration___________________________ beginning date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600200" y="152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Title 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99072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s ADDRES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380988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NOTES/ REFL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48:17Z</dcterms:created>
  <dc:creator>WVDE</dc:creator>
  <dc:description/>
  <dc:language>en-US</dc:language>
  <cp:lastModifiedBy>ccsguest</cp:lastModifiedBy>
  <dcterms:modified xsi:type="dcterms:W3CDTF">2009-01-16T19:35:14Z</dcterms:modified>
  <cp:revision>100</cp:revision>
  <dc:subject/>
  <dc:title>Slide 1</dc:title>
</cp:coreProperties>
</file>